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396FD-9383-4DAB-BF15-96379988DD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65222-CFEC-47ED-87D7-90CC0D9BC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D8319-7F78-450F-A33C-3370E8456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807EE-CFFB-4971-B9A9-82888964B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A00579-E466-45AA-987E-88489FB6E3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E52865-1324-4103-AED3-975E6430A8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31F685-6882-4982-BFEC-5AC3FDEFE3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C1706E-D76C-4C44-AA37-946C3FD47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EF993F-8A89-478A-A969-7EE46115CE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607158-551D-44BF-978B-F2BE6BDCD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B73A9-F973-458E-AD6B-DA3A5552B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03726-F875-482D-A246-4D303C62B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E9862-0BC1-4BDA-837F-63D9A369C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CA76A-B8A0-47E2-8D83-9D3965EDC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47F6B9-A251-4CA5-9488-9DD0C45D67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07C1E6-58CC-4642-A188-0BE9486B03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50462D-BAC6-49F2-87B8-760B4AE320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74C1E-79EA-4B5F-88F5-5CF7874EC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49A88-E1C2-4B6E-A632-9DA00D592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5F2BF-BEB3-4A72-B0E4-F716D6542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908B7-E7C5-491E-AD24-B25368594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C668A-E412-4D37-8E7C-9651CA581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83895-D3FF-467C-ACD6-E0CA07D89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B434C-ED25-468C-B26A-F9F49D4F87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25"/>
          <p:cNvGrpSpPr/>
          <p:nvPr/>
        </p:nvGrpSpPr>
        <p:grpSpPr>
          <a:xfrm>
            <a:off x="0" y="68400"/>
            <a:ext cx="8915400" cy="6713280"/>
            <a:chOff x="0" y="68400"/>
            <a:chExt cx="8915400" cy="6713280"/>
          </a:xfrm>
        </p:grpSpPr>
        <p:grpSp>
          <p:nvGrpSpPr>
            <p:cNvPr id="1" name="Group 222"/>
            <p:cNvGrpSpPr/>
            <p:nvPr/>
          </p:nvGrpSpPr>
          <p:grpSpPr>
            <a:xfrm>
              <a:off x="0" y="68400"/>
              <a:ext cx="647640" cy="6713280"/>
              <a:chOff x="0" y="68400"/>
              <a:chExt cx="647640" cy="6713280"/>
            </a:xfrm>
          </p:grpSpPr>
          <p:sp>
            <p:nvSpPr>
              <p:cNvPr id="2" name="Line 122"/>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Line 123"/>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Line 124"/>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Line 125"/>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Line 126"/>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Line 127"/>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Line 128"/>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Line 129"/>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Line 130"/>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Line 131"/>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Line 132"/>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Line 133"/>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Line 134"/>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Line 135"/>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Line 136"/>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Line 137"/>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Line 138"/>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Line 139"/>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Line 140"/>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Line 141"/>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Line 142"/>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Line 143"/>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Line 144"/>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Line 145"/>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Line 146"/>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Line 147"/>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Line 148"/>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Line 149"/>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Line 150"/>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Line 151"/>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Line 152"/>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Line 153"/>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Line 154"/>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Line 155"/>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Line 156"/>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Line 157"/>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Line 158"/>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Line 159"/>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Line 160"/>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Line 161"/>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Line 162"/>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Line 163"/>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Line 164"/>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Line 165"/>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Line 166"/>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Line 167"/>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Line 168"/>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Line 169"/>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Line 170"/>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Line 171"/>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Line 172"/>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Line 173"/>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Line 174"/>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Line 175"/>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Line 176"/>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Line 177"/>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Line 178"/>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Line 179"/>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Line 180"/>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Line 181"/>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Line 182"/>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Line 183"/>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Line 184"/>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Line 185"/>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Line 186"/>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Line 187"/>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Line 188"/>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Line 189"/>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Line 190"/>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Line 191"/>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Line 192"/>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Line 193"/>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Line 194"/>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Line 195"/>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Line 196"/>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Line 197"/>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Line 198"/>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Line 199"/>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Line 200"/>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Line 201"/>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Line 202"/>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Line 203"/>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Line 204"/>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Line 205"/>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Line 206"/>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Line 207"/>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Line 208"/>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Line 209"/>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Line 210"/>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Line 211"/>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Line 212"/>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Line 213"/>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Line 214"/>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Line 215"/>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Line 216"/>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Line 217"/>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Line 218"/>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Line 219"/>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Group 224"/>
            <p:cNvGrpSpPr/>
            <p:nvPr/>
          </p:nvGrpSpPr>
          <p:grpSpPr>
            <a:xfrm>
              <a:off x="635040" y="325440"/>
              <a:ext cx="8280360" cy="1782720"/>
              <a:chOff x="635040" y="325440"/>
              <a:chExt cx="8280360" cy="1782720"/>
            </a:xfrm>
          </p:grpSpPr>
          <p:sp>
            <p:nvSpPr>
              <p:cNvPr id="101" name="Rectangle 116"/>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2" name="Rectangle 112"/>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3" name="Rectangle 117"/>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4" name="Rectangle 113"/>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DE5C8-9B94-470E-9248-F411DD27C0CA}"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Group 325"/>
          <p:cNvGrpSpPr/>
          <p:nvPr/>
        </p:nvGrpSpPr>
        <p:grpSpPr>
          <a:xfrm>
            <a:off x="0" y="68400"/>
            <a:ext cx="8678880" cy="6713280"/>
            <a:chOff x="0" y="68400"/>
            <a:chExt cx="8678880" cy="6713280"/>
          </a:xfrm>
        </p:grpSpPr>
        <p:sp>
          <p:nvSpPr>
            <p:cNvPr id="147" name="Rectangle 217"/>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148" name="Group 324"/>
            <p:cNvGrpSpPr/>
            <p:nvPr/>
          </p:nvGrpSpPr>
          <p:grpSpPr>
            <a:xfrm>
              <a:off x="0" y="68400"/>
              <a:ext cx="990720" cy="6713280"/>
              <a:chOff x="0" y="68400"/>
              <a:chExt cx="990720" cy="6713280"/>
            </a:xfrm>
          </p:grpSpPr>
          <p:sp>
            <p:nvSpPr>
              <p:cNvPr id="149" name="Line 224"/>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Line 225"/>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Line 226"/>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Line 227"/>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Line 228"/>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Line 229"/>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Line 230"/>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Line 231"/>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Line 232"/>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Line 233"/>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Line 234"/>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Line 235"/>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Line 236"/>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Line 237"/>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Line 238"/>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Line 239"/>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Line 240"/>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Line 241"/>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Line 242"/>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Line 243"/>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Line 244"/>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Line 245"/>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Line 246"/>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Line 247"/>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Line 248"/>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Line 249"/>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Line 250"/>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Line 251"/>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Line 252"/>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Line 253"/>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Line 254"/>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Line 255"/>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Line 256"/>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Line 257"/>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Line 258"/>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Line 259"/>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Line 260"/>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Line 261"/>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Line 262"/>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Line 263"/>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Line 264"/>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Line 265"/>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Line 266"/>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Line 267"/>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Line 268"/>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Line 269"/>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Line 270"/>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Line 271"/>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Line 272"/>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Line 273"/>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Line 274"/>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Line 275"/>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Line 276"/>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Line 277"/>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Line 278"/>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Line 279"/>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Line 280"/>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Line 281"/>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Line 282"/>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Line 283"/>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Line 284"/>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Line 285"/>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Line 286"/>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Line 287"/>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Line 288"/>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Line 289"/>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Line 290"/>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Line 291"/>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Line 292"/>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Line 293"/>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Line 294"/>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Line 295"/>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Line 296"/>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Line 297"/>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Line 298"/>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Line 299"/>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Line 300"/>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Line 301"/>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Line 302"/>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Line 303"/>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Line 304"/>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Line 305"/>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Line 306"/>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Line 307"/>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Line 308"/>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Line 309"/>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Line 310"/>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Line 311"/>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Line 312"/>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Line 313"/>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Line 314"/>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Line 315"/>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Line 316"/>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Line 317"/>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Line 318"/>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Line 319"/>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Line 320"/>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Line 321"/>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Rectangle 220"/>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8" name="Rectangle 219"/>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9"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250" name="PlaceHolder 2"/>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51" name="PlaceHolder 3"/>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PlaceHolder 4"/>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9C04F-1F02-44C9-97D1-9ABAFD0AA096}"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169640" y="1045800"/>
            <a:ext cx="7380360" cy="10126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Research Methodologies</a:t>
            </a:r>
            <a:r>
              <a:rPr b="0" lang="en-US" sz="4000" spc="-1" strike="noStrike">
                <a:solidFill>
                  <a:srgbClr val="003366"/>
                </a:solidFill>
                <a:latin typeface="Times New Roman"/>
              </a:rPr>
              <a:t>	</a:t>
            </a:r>
            <a:endParaRPr b="0" lang="en-US" sz="4000" spc="-1" strike="noStrike">
              <a:solidFill>
                <a:srgbClr val="003366"/>
              </a:solidFill>
              <a:latin typeface="Times New Roman"/>
            </a:endParaRPr>
          </a:p>
        </p:txBody>
      </p:sp>
      <p:sp>
        <p:nvSpPr>
          <p:cNvPr id="291" name="PlaceHolder 2"/>
          <p:cNvSpPr>
            <a:spLocks noGrp="1"/>
          </p:cNvSpPr>
          <p:nvPr>
            <p:ph type="subTitle"/>
          </p:nvPr>
        </p:nvSpPr>
        <p:spPr>
          <a:xfrm>
            <a:off x="1566720" y="2693520"/>
            <a:ext cx="6662880" cy="299412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Presented by Mechthild Maczewski</a:t>
            </a:r>
            <a:endParaRPr b="0" lang="en-US" sz="2000" spc="-1" strike="noStrike">
              <a:solidFill>
                <a:srgbClr val="003366"/>
              </a:solidFill>
              <a:latin typeface="Times New Roman"/>
            </a:endParaRPr>
          </a:p>
        </p:txBody>
      </p:sp>
      <p:pic>
        <p:nvPicPr>
          <p:cNvPr id="292" name="Picture 4" descr="collaging"/>
          <p:cNvPicPr/>
          <p:nvPr/>
        </p:nvPicPr>
        <p:blipFill>
          <a:blip r:embed="rId1"/>
          <a:stretch/>
        </p:blipFill>
        <p:spPr>
          <a:xfrm>
            <a:off x="2843280" y="2421000"/>
            <a:ext cx="4103640" cy="273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ata Analysis </a:t>
            </a:r>
            <a:r>
              <a:rPr b="0" lang="en-US" sz="2000" spc="-1" strike="noStrike">
                <a:solidFill>
                  <a:srgbClr val="003366"/>
                </a:solidFill>
                <a:latin typeface="Times New Roman"/>
              </a:rPr>
              <a:t>(C., p.191)</a:t>
            </a:r>
            <a:endParaRPr b="0" lang="en-US" sz="2000" spc="-1" strike="noStrike">
              <a:solidFill>
                <a:srgbClr val="003366"/>
              </a:solidFill>
              <a:latin typeface="Times New Roman"/>
            </a:endParaRPr>
          </a:p>
        </p:txBody>
      </p:sp>
      <p:sp>
        <p:nvSpPr>
          <p:cNvPr id="310"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Organize and prepare the data for analysis</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ad all data, get a sense of the whole</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Begin detailed analysis with coding process</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Generate a description of the setting/people as well as categories or themes for analysis</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present themes (writing, visual, etc.)</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nterpret and make meaning out of data</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terative, non-linear process</a:t>
            </a: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redibility </a:t>
            </a:r>
            <a:endParaRPr b="0" lang="en-US" sz="4400" spc="-1" strike="noStrike">
              <a:solidFill>
                <a:srgbClr val="003366"/>
              </a:solidFill>
              <a:latin typeface="Times New Roman"/>
            </a:endParaRPr>
          </a:p>
        </p:txBody>
      </p:sp>
      <p:sp>
        <p:nvSpPr>
          <p:cNvPr id="312"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Use of Triangulation</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Use of Member Checking</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Use of rich, thick Description</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larification of Bias</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Use of Negative or discrepant information</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rolonged field time</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eer Debriefing  </a:t>
            </a:r>
            <a:endParaRPr b="0" lang="en-US" sz="2800" spc="-1" strike="noStrike">
              <a:solidFill>
                <a:srgbClr val="003366"/>
              </a:solidFill>
              <a:latin typeface="Times New Roman"/>
            </a:endParaRPr>
          </a:p>
          <a:p>
            <a:pPr marL="343080" indent="-343080">
              <a:spcBef>
                <a:spcPts val="3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 2003, p.196)</a:t>
            </a:r>
            <a:endParaRPr b="0" lang="en-US" sz="1400" spc="-1" strike="noStrike">
              <a:solidFill>
                <a:srgbClr val="003366"/>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Research Methodologies </a:t>
            </a:r>
            <a:br>
              <a:rPr sz="4000"/>
            </a:br>
            <a:r>
              <a:rPr b="0" lang="en-US" sz="4000" spc="-1" strike="noStrike">
                <a:solidFill>
                  <a:srgbClr val="003366"/>
                </a:solidFill>
                <a:latin typeface="Times New Roman"/>
              </a:rPr>
              <a:t>&amp; GILD</a:t>
            </a:r>
            <a:endParaRPr b="0" lang="en-US" sz="4000" spc="-1" strike="noStrike">
              <a:solidFill>
                <a:srgbClr val="003366"/>
              </a:solidFill>
              <a:latin typeface="Times New Roman"/>
            </a:endParaRPr>
          </a:p>
        </p:txBody>
      </p:sp>
      <p:sp>
        <p:nvSpPr>
          <p:cNvPr id="314"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thnography</a:t>
            </a:r>
            <a:endParaRPr b="0" lang="en-US" sz="3200" spc="-1" strike="noStrike">
              <a:solidFill>
                <a:srgbClr val="003366"/>
              </a:solidFill>
              <a:latin typeface="Times New Roman"/>
            </a:endParaRPr>
          </a:p>
          <a:p>
            <a:pPr lvl="1" marL="743040" indent="-285840">
              <a:spcBef>
                <a:spcPts val="4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 ethnography is a description and interpretation of a cultural or social group or system.  The research examines the group’s observable and learned patterns of behaviour, customs, and ways of life. </a:t>
            </a:r>
            <a:r>
              <a:rPr b="0" lang="en-US" sz="2000" spc="-1" strike="noStrike">
                <a:solidFill>
                  <a:srgbClr val="003366"/>
                </a:solidFill>
                <a:latin typeface="Times New Roman"/>
              </a:rPr>
              <a:t>(C., 1998,p.58)</a:t>
            </a:r>
            <a:endParaRPr b="0" lang="en-US" sz="20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apid Ethnography</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Research Methodologies </a:t>
            </a:r>
            <a:br>
              <a:rPr sz="4000"/>
            </a:br>
            <a:r>
              <a:rPr b="0" lang="en-US" sz="4000" spc="-1" strike="noStrike">
                <a:solidFill>
                  <a:srgbClr val="003366"/>
                </a:solidFill>
                <a:latin typeface="Times New Roman"/>
              </a:rPr>
              <a:t>&amp; GILD</a:t>
            </a:r>
            <a:endParaRPr b="0" lang="en-US" sz="4000" spc="-1" strike="noStrike">
              <a:solidFill>
                <a:srgbClr val="003366"/>
              </a:solidFill>
              <a:latin typeface="Times New Roman"/>
            </a:endParaRPr>
          </a:p>
        </p:txBody>
      </p:sp>
      <p:sp>
        <p:nvSpPr>
          <p:cNvPr id="316"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ase Study</a:t>
            </a:r>
            <a:endParaRPr b="0" lang="en-US" sz="3200" spc="-1" strike="noStrike">
              <a:solidFill>
                <a:srgbClr val="003366"/>
              </a:solidFill>
              <a:latin typeface="Times New Roman"/>
            </a:endParaRPr>
          </a:p>
          <a:p>
            <a:pPr lvl="1" marL="743040" indent="-285840">
              <a:spcBef>
                <a:spcPts val="4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a case study is an exploration of a ‘bounded system’ … over time through detailed, in-depth data collection involving multiple sources of information rich in context.  This bounded system is bounded by time and place, and it is the case being studied – a program, an event, an activity, or individuals. </a:t>
            </a:r>
            <a:r>
              <a:rPr b="0" lang="en-US" sz="2000" spc="-1" strike="noStrike">
                <a:solidFill>
                  <a:srgbClr val="003366"/>
                </a:solidFill>
                <a:latin typeface="Times New Roman"/>
              </a:rPr>
              <a:t>(C., 1999, p.61)</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Useful Methods</a:t>
            </a:r>
            <a:endParaRPr b="0" lang="en-US" sz="4400" spc="-1" strike="noStrike">
              <a:solidFill>
                <a:srgbClr val="003366"/>
              </a:solidFill>
              <a:latin typeface="Times New Roman"/>
            </a:endParaRPr>
          </a:p>
        </p:txBody>
      </p:sp>
      <p:sp>
        <p:nvSpPr>
          <p:cNvPr id="318"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articipant observation </a:t>
            </a:r>
            <a:endParaRPr b="0" lang="en-US" sz="28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Gains insight into understanding cultural patterns to determine what’s necessary and needed in tool development (complementary to interviews)</a:t>
            </a:r>
            <a:endParaRPr b="0" lang="en-US" sz="24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nterviews/Focusgroups with stakeholders</a:t>
            </a:r>
            <a:endParaRPr b="0" lang="en-US" sz="28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Explores how tools are used and could be used in a novice programming course</a:t>
            </a:r>
            <a:endParaRPr b="0" lang="en-US" sz="24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Gains insight into the meaning of tools for students for learning to program</a:t>
            </a:r>
            <a:endParaRPr b="0" lang="en-US" sz="2400" spc="-1" strike="noStrike">
              <a:solidFill>
                <a:srgbClr val="003366"/>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Useful Methods</a:t>
            </a:r>
            <a:endParaRPr b="0" lang="en-US" sz="4400" spc="-1" strike="noStrike">
              <a:solidFill>
                <a:srgbClr val="003366"/>
              </a:solidFill>
              <a:latin typeface="Times New Roman"/>
            </a:endParaRPr>
          </a:p>
        </p:txBody>
      </p:sp>
      <p:sp>
        <p:nvSpPr>
          <p:cNvPr id="320"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Data analysis</a:t>
            </a:r>
            <a:endParaRPr b="0" lang="en-US" sz="28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emes arising from data would provide insight into current “learning to program” issues and see what is important to students / teachers / administrators </a:t>
            </a:r>
            <a:endParaRPr b="0" lang="en-US" sz="24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urvey </a:t>
            </a:r>
            <a:endParaRPr b="0" lang="en-US" sz="28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Useful for verifying results on a larger scale</a:t>
            </a:r>
            <a:endParaRPr b="0" lang="en-US" sz="24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User Testing</a:t>
            </a:r>
            <a:endParaRPr b="0" lang="en-US" sz="28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Useful for triangulating results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hoice of </a:t>
            </a:r>
            <a:br>
              <a:rPr sz="4000"/>
            </a:br>
            <a:r>
              <a:rPr b="0" lang="en-US" sz="4000" spc="-1" strike="noStrike">
                <a:solidFill>
                  <a:srgbClr val="003366"/>
                </a:solidFill>
                <a:latin typeface="Times New Roman"/>
              </a:rPr>
              <a:t>Methodology &amp; Methods</a:t>
            </a:r>
            <a:endParaRPr b="0" lang="en-US" sz="4000" spc="-1" strike="noStrike">
              <a:solidFill>
                <a:srgbClr val="003366"/>
              </a:solidFill>
              <a:latin typeface="Times New Roman"/>
            </a:endParaRPr>
          </a:p>
        </p:txBody>
      </p:sp>
      <p:sp>
        <p:nvSpPr>
          <p:cNvPr id="322"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Depends on </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search Questions</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search Goals</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searcher Beliefs and Values</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searcher Skills</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ime and Funds</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iscussion</a:t>
            </a:r>
            <a:endParaRPr b="0" lang="en-US" sz="4400" spc="-1" strike="noStrike">
              <a:solidFill>
                <a:srgbClr val="003366"/>
              </a:solidFill>
              <a:latin typeface="Times New Roman"/>
            </a:endParaRPr>
          </a:p>
        </p:txBody>
      </p:sp>
      <p:sp>
        <p:nvSpPr>
          <p:cNvPr id="324"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How) Can tool improvement, collaboration, ed-tech questions and learning outcomes be addressed in the same study?</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hat GILD research questions match which research methodologie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ferences</a:t>
            </a:r>
            <a:endParaRPr b="0" lang="en-US" sz="4400" spc="-1" strike="noStrike">
              <a:solidFill>
                <a:srgbClr val="003366"/>
              </a:solidFill>
              <a:latin typeface="Times New Roman"/>
            </a:endParaRPr>
          </a:p>
        </p:txBody>
      </p:sp>
      <p:sp>
        <p:nvSpPr>
          <p:cNvPr id="326"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reswell, J.W.  (1998).  </a:t>
            </a:r>
            <a:r>
              <a:rPr b="0" i="1" lang="en-US" sz="2400" spc="-1" strike="noStrike">
                <a:solidFill>
                  <a:srgbClr val="003366"/>
                </a:solidFill>
                <a:latin typeface="Times New Roman"/>
              </a:rPr>
              <a:t>Qualitative inquiry and research design.  Choosing among five traditions</a:t>
            </a:r>
            <a:r>
              <a:rPr b="0" lang="en-US" sz="2400" spc="-1" strike="noStrike">
                <a:solidFill>
                  <a:srgbClr val="003366"/>
                </a:solidFill>
                <a:latin typeface="Times New Roman"/>
              </a:rPr>
              <a:t>. Thousand Oaks, CA: Sag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reswell, J.W. (2003).  </a:t>
            </a:r>
            <a:r>
              <a:rPr b="0" i="1" lang="en-US" sz="2400" spc="-1" strike="noStrike">
                <a:solidFill>
                  <a:srgbClr val="003366"/>
                </a:solidFill>
                <a:latin typeface="Times New Roman"/>
              </a:rPr>
              <a:t>Research design.  Qualitative, quantitative and mixed methods approaches</a:t>
            </a:r>
            <a:r>
              <a:rPr b="0" lang="en-US" sz="2400" spc="-1" strike="noStrike">
                <a:solidFill>
                  <a:srgbClr val="003366"/>
                </a:solidFill>
                <a:latin typeface="Times New Roman"/>
              </a:rPr>
              <a:t>.  Thousand Oaks, CA: Sag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enzin, N.K. &amp; Lincoln, Y. (2000).  Introduction: The discipline and practice of qualitative research.  In N.K. Denzin &amp; Y. Lincoln (Eds.), </a:t>
            </a:r>
            <a:r>
              <a:rPr b="0" i="1" lang="en-US" sz="2400" spc="-1" strike="noStrike">
                <a:solidFill>
                  <a:srgbClr val="003366"/>
                </a:solidFill>
                <a:latin typeface="Times New Roman"/>
              </a:rPr>
              <a:t>Handbook of qualitative research </a:t>
            </a:r>
            <a:r>
              <a:rPr b="0" lang="en-US" sz="2400" spc="-1" strike="noStrike">
                <a:solidFill>
                  <a:srgbClr val="003366"/>
                </a:solidFill>
                <a:latin typeface="Times New Roman"/>
              </a:rPr>
              <a:t>(2</a:t>
            </a:r>
            <a:r>
              <a:rPr b="0" lang="en-US" sz="2400" spc="-1" strike="noStrike" baseline="30000">
                <a:solidFill>
                  <a:srgbClr val="003366"/>
                </a:solidFill>
                <a:latin typeface="Times New Roman"/>
              </a:rPr>
              <a:t>nd</a:t>
            </a:r>
            <a:r>
              <a:rPr b="0" lang="en-US" sz="2400" spc="-1" strike="noStrike">
                <a:solidFill>
                  <a:srgbClr val="003366"/>
                </a:solidFill>
                <a:latin typeface="Times New Roman"/>
              </a:rPr>
              <a:t> ed., pp.1-17).  Thousand Oaks, CA: Sage.</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Overview of Presentation</a:t>
            </a:r>
            <a:endParaRPr b="0" lang="en-US" sz="4400" spc="-1" strike="noStrike">
              <a:solidFill>
                <a:srgbClr val="003366"/>
              </a:solidFill>
              <a:latin typeface="Times New Roman"/>
            </a:endParaRPr>
          </a:p>
        </p:txBody>
      </p:sp>
      <p:sp>
        <p:nvSpPr>
          <p:cNvPr id="294"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Overview of Quantitative/Qualitative Methodologies</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cus on Qualitative Research</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Questions, Characteristics, Methods, Data Analysis, Credibility</a:t>
            </a:r>
            <a:endParaRPr b="0" lang="en-US" sz="28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Research Methodologies / Methods &amp; GILD</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Discussion</a:t>
            </a:r>
            <a:endParaRPr b="0" lang="en-US" sz="3200" spc="-1" strike="noStrike">
              <a:solidFill>
                <a:srgbClr val="0033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Overview of Research Methodologies</a:t>
            </a:r>
            <a:endParaRPr b="0" lang="en-US" sz="4000" spc="-1" strike="noStrike">
              <a:solidFill>
                <a:srgbClr val="003366"/>
              </a:solidFill>
              <a:latin typeface="Times New Roman"/>
            </a:endParaRPr>
          </a:p>
        </p:txBody>
      </p:sp>
      <p:sp>
        <p:nvSpPr>
          <p:cNvPr id="296"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Qualitative Research</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Ethnography, Case Study, Grounded Theory, Autobiography, Participatory Action Research, Phenomenology (each grounded in a specific discipline and philosophical assumptions)</a:t>
            </a:r>
            <a:endParaRPr b="0" lang="en-US" sz="24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Quantitative Research</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urvey methods, Experiments</a:t>
            </a:r>
            <a:endParaRPr b="0" lang="en-US" sz="24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Mixed Methods</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raw from qualitative and quantitative methods</a:t>
            </a:r>
            <a:endParaRPr b="0" lang="en-US" sz="2400" spc="-1" strike="noStrike">
              <a:solidFill>
                <a:srgbClr val="003366"/>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Quantitative</a:t>
            </a:r>
            <a:endParaRPr b="0" lang="en-US" sz="4400" spc="-1" strike="noStrike">
              <a:solidFill>
                <a:srgbClr val="003366"/>
              </a:solidFill>
              <a:latin typeface="Times New Roman"/>
            </a:endParaRPr>
          </a:p>
        </p:txBody>
      </p:sp>
      <p:sp>
        <p:nvSpPr>
          <p:cNvPr id="298"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 quantitative approach is one in which the investigator primarily uses post-positivist claims for developing knowledge (i.e. cause and effect thinking, reduction to specific variables and hypotheses and questions, use of measurement and observation, and the test of theories). </a:t>
            </a:r>
            <a:r>
              <a:rPr b="0" lang="en-US" sz="2000" spc="-1" strike="noStrike">
                <a:solidFill>
                  <a:srgbClr val="003366"/>
                </a:solidFill>
                <a:latin typeface="Times New Roman"/>
              </a:rPr>
              <a:t>(Creswell, 2003, p.19)</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Qualitative - Definition</a:t>
            </a:r>
            <a:endParaRPr b="0" lang="en-US" sz="4400" spc="-1" strike="noStrike">
              <a:solidFill>
                <a:srgbClr val="003366"/>
              </a:solidFill>
              <a:latin typeface="Times New Roman"/>
            </a:endParaRPr>
          </a:p>
        </p:txBody>
      </p:sp>
      <p:sp>
        <p:nvSpPr>
          <p:cNvPr id="300"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qualitative researchers study things in their natural settings, attempting to make sense of or interpret phenomenon in terms of the meanings people bring to them. </a:t>
            </a:r>
            <a:r>
              <a:rPr b="0" lang="en-US" sz="2000" spc="-1" strike="noStrike">
                <a:solidFill>
                  <a:srgbClr val="003366"/>
                </a:solidFill>
                <a:latin typeface="Times New Roman"/>
              </a:rPr>
              <a:t>(Denzin &amp; Lincoln, 2000, p.3).</a:t>
            </a:r>
            <a:endParaRPr b="0" lang="en-US" sz="2000" spc="-1" strike="noStrike">
              <a:solidFill>
                <a:srgbClr val="0033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Qualitative - Definition</a:t>
            </a:r>
            <a:endParaRPr b="0" lang="en-US" sz="4400" spc="-1" strike="noStrike">
              <a:solidFill>
                <a:srgbClr val="003366"/>
              </a:solidFill>
              <a:latin typeface="Times New Roman"/>
            </a:endParaRPr>
          </a:p>
        </p:txBody>
      </p:sp>
      <p:sp>
        <p:nvSpPr>
          <p:cNvPr id="302"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 qualitative approach is one in which the inquirer often makes knowledge claims based primarily on constructivist perspectives (i.e. the multiple meanings of individual experiences, meanings socially and historically constructed, with an intent of developing a theory or pattern) or advocacy/participatory perspectives (i.e. political, issue-oriented, collaborative or change oriented) or both. </a:t>
            </a:r>
            <a:r>
              <a:rPr b="0" lang="en-US" sz="2000" spc="-1" strike="noStrike">
                <a:solidFill>
                  <a:srgbClr val="003366"/>
                </a:solidFill>
                <a:latin typeface="Times New Roman"/>
              </a:rPr>
              <a:t>(Creswell, 2003, p.18)</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search Questions</a:t>
            </a:r>
            <a:endParaRPr b="0" lang="en-US" sz="4400" spc="-1" strike="noStrike">
              <a:solidFill>
                <a:srgbClr val="003366"/>
              </a:solidFill>
              <a:latin typeface="Times New Roman"/>
            </a:endParaRPr>
          </a:p>
        </p:txBody>
      </p:sp>
      <p:sp>
        <p:nvSpPr>
          <p:cNvPr id="304"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Qualitative</a:t>
            </a:r>
            <a:endParaRPr b="0" lang="en-US" sz="3200" spc="-1" strike="noStrike">
              <a:solidFill>
                <a:srgbClr val="003366"/>
              </a:solidFill>
              <a:latin typeface="Times New Roman"/>
            </a:endParaRPr>
          </a:p>
          <a:p>
            <a:pPr lvl="1" marL="743040" indent="-285840">
              <a:spcBef>
                <a:spcPts val="4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n qualitative study inquirers state research questions, not objectives (i.e. specific goals for the research) or hypotheses (i.e. predictions that involve variables and statistical tests). </a:t>
            </a:r>
            <a:r>
              <a:rPr b="0" lang="en-US" sz="2000" spc="-1" strike="noStrike">
                <a:solidFill>
                  <a:srgbClr val="003366"/>
                </a:solidFill>
                <a:latin typeface="Times New Roman"/>
              </a:rPr>
              <a:t>(C., 2003, p.105)</a:t>
            </a:r>
            <a:endParaRPr b="0" lang="en-US" sz="20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Example: How do students use program development tools?</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haracteristics of </a:t>
            </a:r>
            <a:br>
              <a:rPr sz="4000"/>
            </a:br>
            <a:r>
              <a:rPr b="0" lang="en-US" sz="4000" spc="-1" strike="noStrike">
                <a:solidFill>
                  <a:srgbClr val="003366"/>
                </a:solidFill>
                <a:latin typeface="Times New Roman"/>
              </a:rPr>
              <a:t>Qualitative Research</a:t>
            </a:r>
            <a:endParaRPr b="0" lang="en-US" sz="4000" spc="-1" strike="noStrike">
              <a:solidFill>
                <a:srgbClr val="003366"/>
              </a:solidFill>
              <a:latin typeface="Times New Roman"/>
            </a:endParaRPr>
          </a:p>
        </p:txBody>
      </p:sp>
      <p:sp>
        <p:nvSpPr>
          <p:cNvPr id="306"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akes place in the natural setting</a:t>
            </a: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Uses multiple methods that are interpretive</a:t>
            </a: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s emergent rather than tightly prefigured</a:t>
            </a: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Fundamentally interpretive (role of researcher as interpreter)</a:t>
            </a: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esearcher views social phenomena holistically</a:t>
            </a: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esearcher systematically reflects on who he or she is in the inquiry and is sensitive to hiw or her personal biography and how it shapes the study</a:t>
            </a: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esearcher uses complex reasoning that is multifaceted, iterative, and simultaneous </a:t>
            </a: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esearcher adopts and uses one or more strategies of inquiry</a:t>
            </a:r>
            <a:endParaRPr b="0" lang="en-US" sz="2400" spc="-1" strike="noStrike">
              <a:solidFill>
                <a:srgbClr val="003366"/>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search Methods</a:t>
            </a:r>
            <a:endParaRPr b="0" lang="en-US" sz="4400" spc="-1" strike="noStrike">
              <a:solidFill>
                <a:srgbClr val="003366"/>
              </a:solidFill>
              <a:latin typeface="Times New Roman"/>
            </a:endParaRPr>
          </a:p>
        </p:txBody>
      </p:sp>
      <p:sp>
        <p:nvSpPr>
          <p:cNvPr id="308"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Interviews</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cusgroups</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Participant observation (field notes)</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Video </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ext and Image analysis (documents, media data)</a:t>
            </a:r>
            <a:endParaRPr b="0" lang="en-US" sz="32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8T15:54:18Z</dcterms:created>
  <dc:creator>Mechthild Maczewski</dc:creator>
  <dc:description/>
  <dc:language>en-US</dc:language>
  <cp:lastModifiedBy>farhad</cp:lastModifiedBy>
  <dcterms:modified xsi:type="dcterms:W3CDTF">2011-12-04T04:12:08Z</dcterms:modified>
  <cp:revision>41</cp:revision>
  <dc:subject/>
  <dc:title>Research Methodologies </dc:title>
</cp:coreProperties>
</file>